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9F7-E0F7-4630-A216-A5D5D8BE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5E2-6655-4CD6-9847-2C9E83A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57D-36E5-4306-A142-599E97F1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9FB-5F66-4103-AFC6-B13B3D9A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46D-EC32-4C2A-89BA-EC039245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66CD-FA06-4E76-B68C-C1E62E4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24CC-A78A-4D18-BD7D-B9A1DDB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5B17-9209-47F4-9283-CB10633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14AB-3A8C-49A4-9D8C-A78C59AB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C875-A8BA-4B0E-A746-27DA6DC4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BB36-6C18-4783-9C78-5446E07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748-575C-4C75-94FE-98E528E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7263-97FD-4FAC-90AC-BD8023F8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FA35-0BAB-4FFC-A2D9-73D3C21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E1A-26B9-4191-BE54-127D54E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D58-743E-41F6-B410-955F44C1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9B58-9AEE-4004-B178-0DC9CFE4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B56-8D70-4144-A3A0-1516950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656-EBB8-42F1-9ECE-1E1ADBF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954-1C70-4A28-AF68-22BA1F0A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86B-8678-4E28-A4D8-AEDC0E7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409-5D54-44BC-9305-65D478E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0B4-4A86-4D7D-A9C1-EBFA703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70C-5198-4849-8641-092EE7A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0A1-4DC7-4244-B06F-035C484A1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2643-D580-45B1-B72D-43476CCF7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xx2KcPWWZ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tion to the Ipad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dan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oiding “The gadget effect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MS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echnology for “technology’s sak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this mental che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make something I currently do easier, better, more efficient, or impact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help us engage in a totally new way that can be show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ce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benefits are:  engaging, personalized, collaborative, visual/kinesthetic, “hands-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Ipad Concepts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“paradigm shifters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pad was intended to be a companion device, not a content creation dev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limit or improve its function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resident file structure within an Ip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in “The Age of Googl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device potentially change the appearance of education as we know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genda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:  Wifi, Email, “find my Ip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tour:  settings, navigation, interface, Web-browser, double-tap, finger pinch, multi-tas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note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 discussion/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ork vs. Documents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teacher Gradebook Ap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cavenger Hunt 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nd email a picture to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screenshot of a website that explains how the Ipad multi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NYTimes free app to find out what today’s headlin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your home screen wall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store: what are the top three most downloaded Free apps for the category edu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brief Facetime chat with you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ependent Work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s 2 hours toward 7.5 hour requi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notated app list, reviewing at least 10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: Name, brief overview, cost, practical description of how you envision using it in the classroom – focus on the two qualifier questions from “mental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urchased apps should every faculty/studen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particular app (specific to your subject) that you would like the district to purchase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– delivered by E-mail (1 week from today) 9/21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43:05Z</dcterms:created>
  <dc:creator>Haldane Central School District</dc:creator>
  <dc:description/>
  <dc:language>en-US</dc:language>
  <cp:lastModifiedBy>Haldane Central School District</cp:lastModifiedBy>
  <dcterms:modified xsi:type="dcterms:W3CDTF">2011-09-14T18:49:15Z</dcterms:modified>
  <cp:revision>9</cp:revision>
  <dc:subject/>
  <dc:title>Introduction to the Ipad</dc:title>
</cp:coreProperties>
</file>